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C87-BA05-435E-903D-E52EE4E1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E48-B540-4D72-B310-F13AB38A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689-4348-48F0-B8D6-4547F527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E90-CAB9-484F-B5C0-C22C3BB2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75E1-6A9A-4FE8-ADCC-EA7BE547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B337-1DEA-4FB4-AB81-0E137082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577A-183F-420C-A5F5-D1A9BCFD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41A1-283C-4757-9ADD-9E86DB8F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CE5A-24A1-47EA-AF52-7DF6E1EA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F8C0-03D3-46CA-8D2F-0439ADB4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8D61-4D99-4B18-806B-721F899B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AD1-1B34-4E4E-89BF-F9B74EB7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3996-2919-4A3B-8999-CA9D16CA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1CAD-5352-48A7-9AA4-C61CA616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DC4B-51A0-4381-AF94-095966B9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B55C-509B-4013-BC26-08061A9C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F4DE-11F7-474A-96AB-060153D1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09E-9989-4627-82B6-A1F49C05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0E42-6045-464A-8056-2EBBD815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B0A3-46A5-4C68-8C7D-E114084E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93A-9C33-404C-99E5-2DA8CC08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DB6C-71E1-4BA4-850B-68977099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681-8341-46B5-A863-20E67283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9ED4-41E2-405E-A87C-44355BB6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51DA-FC5F-42A5-B54D-F8992FC72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5363-221D-4A75-A79D-B950706B9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3640" y="476280"/>
            <a:ext cx="20160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d9d9ff"/>
                </a:solidFill>
                <a:uFillTx/>
                <a:latin typeface="Comic Sans MS"/>
              </a:rPr>
              <a:t>Symud</a:t>
            </a: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93360" y="1197000"/>
            <a:ext cx="47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ae’r teulu Mostyn yn symud i 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ŷ newyd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2680" y="1700280"/>
            <a:ext cx="79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Mae ganddynt dri anifail anwes, ci, cath a llygode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. Nid yw’r anifeilia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n gallu teithio gyda’i gilydd yn y car, felly rhaid iddynt deithio ar wahâ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7240" y="2708280"/>
            <a:ext cx="805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Ond, mae problemau eraill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. Ni ellir gadael y ci a’r gath gyda’i gilydd gan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yddai’r ci yn rhedeg ar ôl y gath, ac ni ellir gadael y gath a’r llygod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gyda’i gilydd am resymau amlw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10720" y="3933720"/>
            <a:ext cx="56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Sut y gellir symud yr anifeiliaid i’w cartref newydd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236000" y="3573360"/>
            <a:ext cx="1158840" cy="1844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900000" y="4724280"/>
            <a:ext cx="1766880" cy="1114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27640" y="4653000"/>
            <a:ext cx="100800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7:50:00Z</dcterms:created>
  <dc:creator>Carwyn</dc:creator>
  <dc:description/>
  <dc:language>en-US</dc:language>
  <cp:lastModifiedBy>Carwyn</cp:lastModifiedBy>
  <dcterms:modified xsi:type="dcterms:W3CDTF">2008-12-04T19:30:37Z</dcterms:modified>
  <cp:revision>2</cp:revision>
  <dc:subject/>
  <dc:title>Symud</dc:title>
</cp:coreProperties>
</file>